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3E5-2352-4B7B-AC7D-E98F57C0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279-1432-4D4E-9836-4486AD9F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58AFF-5F39-4EC7-86C4-0911C579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3F22-47CA-40D3-BDD1-5A6FAFB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D4BA4-E447-4AE6-AD13-FBEC0D79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95512-14C7-48E3-B11E-87F1E2A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C75AA-1CFF-4282-A4D0-C87B229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99E15-8F71-4A58-AD3F-5049744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14099-062F-4BDE-96D3-9F9E825B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D863C-B8D9-4F72-9212-468FCC4D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ABD30-1948-4616-81F9-CEE10EA0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E5E85-3CEC-4F4E-BF82-413E992E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D51-0567-4A24-9ABE-40D3B9E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2BE37-8582-4954-A068-84B526E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2899C-CF26-485B-BA79-5B750F4D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B8C90-3AC2-45EB-AE3E-F6894823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D9F3-FFEF-4FF6-B1E2-09E8465D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9ED66-9A51-47AD-9A20-20970F6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F4AC0-8D6E-4140-9D4A-D46783B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82977-0212-414C-AB18-0DA8F2C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8FB09-2D8E-4EB0-B6DD-C541127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440CC-849C-405C-AF93-EFBCA75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8F4E3-A206-445E-BD5B-F327FD26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F46-BCE8-4FDD-99FA-2301751F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3D1D2-3CD6-480C-8803-55F63962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BC908-8FF4-48DD-B3D2-C5D4F03C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F75E-83C6-470C-AF72-F5E9746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07E80-3C37-4BCC-BC86-0BAED84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A6A8-B530-4BAC-831F-EF891932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58159-9749-4C59-B454-8782C2AE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59267-BE8F-4C7C-A67A-AB3A27A7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69F17-C236-453E-9F95-C952D26F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6BB9-14A1-436E-8F3A-6CE710A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04AAA-B532-4E3A-BC3C-312BB93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824-01F0-4ABE-8B54-617755D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9C299-D918-442A-A1A2-4781912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C5654-4324-4885-A52A-579C4852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01ED0-1281-47AA-8CF0-7F414904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CBA79-9F4C-4B37-BDEA-BB275F63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A30C7-6FA2-4DE8-A811-5BD924F7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5A305-A6E3-49C1-9348-224592C3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90F64-AC39-445E-89F4-ED68BE1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D7FE6-2512-459B-8CA7-EA7ECAA0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0B1A8-6533-4904-9710-5BA2596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465E7-4321-44BC-B056-21967AA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6824-1652-4111-98A5-C59AABB8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D6B35-BB77-426E-AD27-12472CA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4EDDB-485B-4CED-A764-53EC885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0D63F-0D3D-4CF7-B5DF-76CF4AA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2DA8B-E0C3-48D2-B208-C006D502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8B391-49FE-4E6B-8316-854CF288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22752-E64B-4AFF-9EB6-2E8FCCB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70444-0AAD-4F2C-B467-FDACD869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F6213-55E2-42E2-BA41-E438338D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16789-8362-4F56-8582-09DA57A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A0C2D-A0A7-422C-AEE7-828CCF75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0C0-D5B8-4AD9-8CD3-A63C9343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8EEE3-2E3C-461C-8FB1-BB508E28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4C4D3-169A-4FDC-99F3-60C5E33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D21A3-0CAA-45D2-AECD-7E01EA8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F8674-2F65-4355-96D9-07DDDEBB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CD191-5BD1-4D3F-A306-A4B0951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D44ED-A03F-469C-A478-7C44D5CE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35A9C-B224-4775-8359-53145590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85B33-6BA8-4EDA-94F4-11789014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94D65-E806-462C-90FD-8CEC0F88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14414-6BAA-46D0-8208-3C5319CC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323A-9916-45F2-B340-8148FFAD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1EB6D-3B51-4DF9-A649-6F8AF43B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9BA02-FFC1-4362-AE19-657404B4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85AB5-DBA2-4536-B34F-70FFE053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7BAC5-44D9-4F87-B248-7EC448D7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F7A13-E25A-430A-9D96-4F25E5D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B7783-DACA-4B21-9487-8EDD095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934BA-685F-489D-8C0B-48C559D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843D4-9A9B-43C1-856B-960ADCE9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B9825-C942-49AA-9A83-5FE4DEE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30C71-00F7-47F7-8DD6-388C47A8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E287-EF5C-4ED1-A05B-46B8DEC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A3CAC-0E14-4625-BB09-5C18C3A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A3B91-5ADA-469E-8FAE-14E0696A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5C192-582B-47B4-B7F0-79831E25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B412A-2EB9-4097-BE1F-34905553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6960C-CEAD-4F6E-9B25-695FB74A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37EE8-4640-4464-BE89-4B87DBA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DB15A-F76B-4507-A675-1D0DB9E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8888D-BF7B-44A9-99F0-BAB2AF0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C081F-B3BC-4234-A703-7932759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31545-07A7-482D-AE53-4E91C216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00A5-F2D6-4936-B350-A0BD1C5C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6C3E8-7A23-480E-B57B-AAFD4476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4A226-3E8F-468D-B6CC-E5935B27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B9AB5-0194-4FF2-8FBD-91B83F88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F6F1E-2441-477F-9160-314234C9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237F2-304E-47EB-8BFF-1EA6CB8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D3A38-13B7-44AB-838D-30F61CD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B6EA3-5754-48D8-91CB-0BFE371D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DAE93-E222-42EB-9C11-F754651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2B10C-F222-4730-8516-161B5CF6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99003-B999-4EF4-A977-394A6B2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170-299A-4185-BB35-67BCEEE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34E2D-A923-4B85-9536-303EAB94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6C0BC-8BB7-437E-9731-F6C33270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A8B4B-DC68-4369-97AE-B958D909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C6341-5673-4C6B-A2B9-B73B0EEA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1DFCC-12DE-4183-95CA-E218418C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4205C-E58C-4FA0-9B49-7D32006E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65EAB-0026-4D0B-823D-4707E376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BD8F2-1DC1-4FF8-9A12-0E39B1F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50292-FC46-4272-8A85-CABB6C54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8122C-FD97-4091-A8E5-9AC3CA9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FC-CF04-461F-911E-75AF5477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215A-7D50-4EFB-9581-5A31670F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32E2E-1A74-4995-8E1B-FFBEAD7E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15983-9751-413B-A7B4-C27FF847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4E895-A48C-49FB-B299-06594A80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E061A-8B25-4353-A57C-D8BFD7CE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715F0-77AB-4E17-9322-7460C20E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E4C2A-ED3F-4569-BE34-81D3821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C24EA-F6D9-46E8-A7DE-2BCA50C1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F4BE5-33E1-4BE4-8CEC-77CB3BAC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24C4B-EC00-47A1-B6E8-B098891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52C8D-E1C1-4382-8492-5F997F9C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82FE-CC9D-4B19-8F71-F820D1F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4BA5F-7326-4BEC-A881-890F945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8FFF9-40EF-48A1-A031-E009698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58FD1-47D4-4BBA-A2A3-6AD40D9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9D2AE-B812-448C-B94B-1408A4C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F7D27-801A-4A93-8602-7ED5D73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91B39-8069-4E54-889C-4F45F552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38BB9-CE27-4617-99F5-2030B299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F6A76-DB6D-460F-8F1A-742661B6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C56E5-E0C3-46FC-B838-531E603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F8B79-1848-4414-8985-7AB52FCE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24A9-8661-4BD1-93D1-F0B850D7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6CDC6-CC58-49D1-B678-BE4D0390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5EE07-38CA-4404-9634-EF628C79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0752C-8968-4D24-8C74-41B7B52D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CAA25-8108-42E6-91DF-96D57DF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8E352-7817-4740-A403-E143883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6D516F-86DA-4630-8D4D-14BF269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ADEA4-9085-4D4D-8536-224591F9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0A710-3EBA-49E6-85E6-8DC23804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8E55E-45E1-4CEB-85FA-FBBA6C3E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0183B-C0F7-4FCA-8762-A6434DD4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D1C-2055-4FBC-BEFC-A4804047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81E4A-E5E5-4F23-BBE7-9A408C1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89E10-B03D-4D07-97A9-232D6A6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4E82C-23C5-49AF-8BED-9B4FD3C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0DD48-2D03-40CE-A987-78DC99F5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532B7-99A7-4027-BE4B-E113E5C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933EC-42AE-4BCC-83A1-291563A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63148-04F4-43B8-8B59-328A1BA7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C4C93-2077-473D-9E64-BCA58FC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AA041-36C7-4F2E-B85A-385EF36C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285B4-BE15-4797-9EDC-14134D0F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A57E-802F-48F3-846C-3A236A36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043A7-9A28-447B-BC6E-30B9C99F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F54C97-220A-48F6-9DB8-7A77D4A0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214EF6-CCCC-4579-BA73-5D5302AA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879ED-5AAB-4EF1-AC62-95FDFF02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CDDE6-F8B4-433F-8A20-C951AD7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364494-062E-4E29-A805-E9566A34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F0803-4EAE-4C1F-B127-D142E3C4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4928B-C545-4731-8C5B-1ACC20F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F5DDB-8A8E-4113-8AAE-99AA26AB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BC135-5C8D-47F4-A58C-E7DCB65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F0A7-E567-4BB5-9560-6A1D9DAA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3B50F-92C1-43D4-9424-68958BB2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A98292-8B80-4740-8CAE-F5D55E00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DCAD3-DE68-48E4-B053-0EEC5368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F46F-9643-456E-BB8E-0764C58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4E69-AA0D-4FB9-8EAC-3D4BE023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129D-7FC0-4382-BCF5-035CD88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D64C-B58B-4A0C-8105-09024FB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A47-5F6A-448D-A609-6278D2D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2701-8C85-42DB-A7BF-12D38C8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60BE-FAFD-4D20-8265-CD88EF2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BE2F-4384-4229-9CEF-522C528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EDA2-6FFC-4327-BFFE-8BA23A1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70DC-2A12-4804-9C76-6F9B1ACD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7228-0A99-41C7-96BE-627FCD43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7DCD-AC98-4167-B93A-D6BFCA6A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A827-35B1-481F-BEEF-047D4332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6EF8-C2CA-4214-BB7E-A3A3F87A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4A16-06FC-4646-8C76-18D34926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A58-F0C0-440D-A8BE-091E717D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AEE7-68D0-4E3D-B89A-EC2656F3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0B5E-0FAD-4340-B3A4-4F76732A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074D-ABD4-4D66-8B9F-FE9B1F9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B928-3C79-4C37-949E-462326C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75AE-1174-4F0C-8BCE-1BD8D22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4BD2-91E5-4D88-9F61-C374DBF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68F9-A024-4ED2-9C38-EE488428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5F32-09A5-4E9D-80EC-734C2771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2B41-ACAA-414E-B2F7-8F5E46A3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A05F-3865-414A-805B-A7B0A0CF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56E-A0E2-4C03-AA3A-3967EF5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48E80-8C9A-46B4-8E01-D2B0A17B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B152-07EF-4DD4-8950-30E7AF9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6E55-76C4-4F1C-AEAD-01CD8C3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B513-6474-4E1A-A339-68C69588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4E5C4-FCD3-48D0-A753-55077E8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56928-EE49-431F-9722-497F883B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D0AD-E33C-40D0-96CC-B35640C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395F2-E58B-4611-96D6-02AEB78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D1F9-9225-481C-B6F3-E22324BB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CB1D-65BC-487E-BE29-95E49644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F42-59D6-4099-B910-27532F65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FD462-4D5D-4E98-9029-F6124DC5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5FC6-2C58-4184-9F09-DC923711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13703-C903-4ABE-8A80-7492611C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CA68B-A9C7-49FB-8D52-0EA73D1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BD3A-8B3A-4216-8E0D-17B826F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EF3C-C557-40A4-83AD-35F247B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13B9-F8D4-462E-8262-EB7629A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63B06-4735-4151-ADBE-5F22DFF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5B89-EFD6-4612-AB9C-5D9F84C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F44F-405B-4640-A5AF-5F591718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DFF-E6F1-4477-BDCA-86075B6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F32D-9346-42ED-A77F-5B687D5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71CC-9D3B-4D56-90CB-5812EAD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5EAC-BD47-4E48-89A7-684E7C93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83B40-582F-4483-9B13-58D23974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746BF-EAB5-42A3-A3C0-FD5B4E21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83DCB-ADBE-43E4-BD61-611318F8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9113E-221C-474C-B8AF-E83E78A6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56DA-BB48-4266-A05A-85268B76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8BDA-9335-4890-B9CF-C8A709D1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7773-2F57-4817-96D4-BD0E3ABB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6AE-CF46-42BA-8645-1520D562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A5AB-9E86-4E24-B2E8-83E8DDB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442DC-52B4-47E9-A66C-722F772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FFA9-68C3-44C5-AB19-919A880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18B2E-36C8-489D-AE8D-087A5089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83B2-8A2A-41EA-90C5-92643FF2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94202-CEE3-4049-9BE7-3A392D08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06A8-DD8B-4B53-A6E7-B647147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0E78-6AFD-4DF4-A8D0-8C9068E3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9F22-E675-4258-9B68-E891C13A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481B-6D60-496D-98D4-F0F83B3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897-6FEA-434E-A5F1-D6A8E4E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5998E-9D61-48B9-A9FE-D2AED88D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9F6D-1676-4FB3-AF17-ABCE58A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C52E-48EE-4726-963A-FDDF76C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6A68-0C42-4DDC-91C1-9C1C804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61CF9-F6B2-41BC-AA2B-2A4FF0D9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5177-BAAD-47F8-BBAC-B4B985F4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C63A-56C7-47BB-8381-1E7C3653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3974C-C026-4767-9C7C-843BFCB8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6DDF1-7EF8-4594-BBBB-F3BB0D82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75865-A922-42F8-9744-5586D0A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D4F6-5BF3-4D28-B11B-7592E8764F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A40-5F3D-4E26-A302-CB26CD1CDE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319-E66C-4FBF-A8D1-F33C971EF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F088-A1FF-4C29-9BEE-E3D96C36B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975-6A8F-4457-BD71-725B4C764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1651-4B92-464F-855D-FFBF43F95C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0CF3-43F3-438F-838C-0DA36D50C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C81-CEDF-4FA8-A9B8-AD2DFE01C2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6D5-B75D-46C7-B955-137BAD227B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32DA-E397-4648-9AE3-E7E2AA886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675-9402-4D19-ABF1-889FA3831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A92-C156-47FB-9C56-8E51CF579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3FAF-326A-4434-8C2C-453D2F388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6FA-E34E-46E6-B6B2-E14DE1E44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FFC-C42C-4858-AB0C-703BF119C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1326-8B18-4396-AEC6-B18F0A9E1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525E-B058-4FAE-904D-034C63D279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D9AA-9964-4AFC-9F55-E77CAFF8EF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565F-88B6-4AB3-895A-281C68093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4C5C-6200-430E-8586-391D95631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557-0F32-43BA-8067-C44CF43D2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7ECE-B7B0-462D-9771-A88AD95BCA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69AD-53BC-4892-9BC3-63DC4F00A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5C2-7945-4DA5-936D-837054B57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3B3E-CF3E-4492-A530-8181154C6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551-1ACE-4E8E-8678-DF70CF7F8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E36-414F-4A6B-8682-0C8F7312E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D7BB-305B-41CB-A775-E2C3683BC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83C-9CB9-406C-9E55-7E883EE85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A5EB-47EE-41F6-84D1-333482B65E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A8C-D785-4BDB-9E68-D8C461E04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8404-F16E-4104-9993-6C48119726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5515-4E36-47A6-BE75-E5C158DD8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BFF-3339-4310-B9FE-C4EEAF9928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7F2E-4D9F-4B29-849F-91BE7465C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8212-4055-4209-B4CE-1059D4ED42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773-028A-431B-9DBB-972A61059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D3D2-00FA-4B36-832D-14C6997BC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2349-A000-4391-84FC-E2B615DEE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8959-F1C7-49E9-B5EC-DED312C67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00360" y="3228840"/>
            <a:ext cx="374328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4480" y="2219400"/>
            <a:ext cx="8915400" cy="2419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27440" y="3490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24720" y="3500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489640" y="3933720"/>
            <a:ext cx="117000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885080" y="3924360"/>
            <a:ext cx="1150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826920" y="4330800"/>
            <a:ext cx="865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1338120" y="1376280"/>
            <a:ext cx="6467760" cy="4105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5273640" y="2698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2637000" y="31845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267000" y="31798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283360" y="3645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9415" descr=""/>
          <p:cNvPicPr/>
          <p:nvPr/>
        </p:nvPicPr>
        <p:blipFill>
          <a:blip r:embed="rId6"/>
          <a:stretch/>
        </p:blipFill>
        <p:spPr>
          <a:xfrm>
            <a:off x="2098800" y="4043520"/>
            <a:ext cx="1619280" cy="404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5219640" y="46004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9417" descr=""/>
          <p:cNvPicPr/>
          <p:nvPr/>
        </p:nvPicPr>
        <p:blipFill>
          <a:blip r:embed="rId8"/>
          <a:stretch/>
        </p:blipFill>
        <p:spPr>
          <a:xfrm>
            <a:off x="2095560" y="5027760"/>
            <a:ext cx="1619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595440" y="895320"/>
            <a:ext cx="7953120" cy="5486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8375" descr=""/>
          <p:cNvPicPr/>
          <p:nvPr/>
        </p:nvPicPr>
        <p:blipFill>
          <a:blip r:embed="rId3"/>
          <a:stretch/>
        </p:blipFill>
        <p:spPr>
          <a:xfrm>
            <a:off x="1278000" y="1332000"/>
            <a:ext cx="2952720" cy="124596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8376" descr=""/>
          <p:cNvPicPr/>
          <p:nvPr/>
        </p:nvPicPr>
        <p:blipFill>
          <a:blip r:embed="rId4"/>
          <a:stretch/>
        </p:blipFill>
        <p:spPr>
          <a:xfrm>
            <a:off x="5067360" y="1413000"/>
            <a:ext cx="3166920" cy="118080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77" descr=""/>
          <p:cNvPicPr/>
          <p:nvPr/>
        </p:nvPicPr>
        <p:blipFill>
          <a:blip r:embed="rId5"/>
          <a:stretch/>
        </p:blipFill>
        <p:spPr>
          <a:xfrm>
            <a:off x="1509840" y="3078000"/>
            <a:ext cx="1619280" cy="405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7020000" y="2708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8379" descr=""/>
          <p:cNvPicPr/>
          <p:nvPr/>
        </p:nvPicPr>
        <p:blipFill>
          <a:blip r:embed="rId7"/>
          <a:stretch/>
        </p:blipFill>
        <p:spPr>
          <a:xfrm>
            <a:off x="5657760" y="3083040"/>
            <a:ext cx="1619280" cy="4046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5435640" y="4365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8381" descr=""/>
          <p:cNvPicPr/>
          <p:nvPr/>
        </p:nvPicPr>
        <p:blipFill>
          <a:blip r:embed="rId9"/>
          <a:stretch/>
        </p:blipFill>
        <p:spPr>
          <a:xfrm>
            <a:off x="2781360" y="5943600"/>
            <a:ext cx="1619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8:3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